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13.wmf" ContentType="image/x-wmf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5ACE-E22D-446F-BF14-A9147E4B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225-B503-484F-8DD3-8EC8A337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44B-DD2D-4479-AD9E-6EC0D9CC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B68-114B-4540-A1B1-CA060CA6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D54-819C-4DE0-BFBC-D3513DE2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9632-F1D3-41BB-9748-534F71F8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9DD-43CD-4F69-B2A3-DB82CEF0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BAF-29F1-4277-A279-1C1A8457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A15-E0D7-4C5A-80A4-36CEFC0F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AD1-8429-458C-BB1B-D8E4FA14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D2B-7BCA-4916-9D08-B3269E7C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AD1-897D-45BA-B100-8A4EBC7E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6D6C-8615-41A1-841E-69BA84267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quista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essica O’Ne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95280" y="609480"/>
            <a:ext cx="1827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pital is Tenochtitlan which was a city in the middle of a l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Indians were polytheistic which means that they believed in many different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ade human sacrific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d lots of 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3809880"/>
            <a:ext cx="6172200" cy="2828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4520" y="64904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takalaya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001000" y="4092480"/>
            <a:ext cx="838080" cy="70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flipH="1">
            <a:off x="380880" y="5410080"/>
            <a:ext cx="990720" cy="836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80880" y="4267080"/>
            <a:ext cx="990720" cy="836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924680" y="5486400"/>
            <a:ext cx="91152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Indians didn’t have just one capital they had many different ones like Yucatan Penins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d slaves that could gain their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region didn’t own that much 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polythei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813280" y="-2910960"/>
            <a:ext cx="184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dupic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417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95680" y="1317600"/>
            <a:ext cx="18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takalaya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8200" y="6490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shakti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57400" y="3352680"/>
            <a:ext cx="422928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925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America, Andes Mt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was Cuz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polytheistic belief in many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d animal sacrifice, and on special occasions human sacrifice (children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20" y="64904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p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840120" y="2429280"/>
            <a:ext cx="12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p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840120" y="3486600"/>
            <a:ext cx="18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p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71600" y="3460680"/>
            <a:ext cx="350532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e was a Spanish explorer and a conquistador which means that he takes people over by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zuma believed that he was one of their gods named Quetzalcoatl who was a pale skinned Aztec g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anish were driven away but planed to return to defeat the Aztecs once and for 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anish destroy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ochtilan and created Mexico 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renatica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28958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z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Cortez he was a conquistador and a Spanish explor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traveled with 180 men and 27 horses to Peru to conquer the In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s were in the middle of a civil war which means that their country was fighting between  two parts of the cou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ahuapla, Inca emperor was kidnapped and held up for a ran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zzaro tricked the Incas by taking the gold but not giving back Atahuapla and later he was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4640" y="649044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s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3095640" cy="27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34120" y="403848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central America speaks Spanish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do the descendants of the Aztecs, Mayas, or the Incas worship their Indian gods instead they are Christi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their traditions have disappeared and they no longer d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don’t believe in many gods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19920" y="4800600"/>
            <a:ext cx="1333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1827000" cy="1827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181480" y="3809880"/>
            <a:ext cx="3505320" cy="2479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2120" y="3352680"/>
            <a:ext cx="268272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657600" y="1600200"/>
            <a:ext cx="18478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48:38Z</dcterms:created>
  <dc:creator>jklib</dc:creator>
  <dc:description/>
  <dc:language>en-US</dc:language>
  <cp:lastModifiedBy>jklib</cp:lastModifiedBy>
  <dcterms:modified xsi:type="dcterms:W3CDTF">2011-11-28T16:24:14Z</dcterms:modified>
  <cp:revision>5</cp:revision>
  <dc:subject/>
  <dc:title>Conquistadors</dc:title>
</cp:coreProperties>
</file>